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3.gif" ContentType="image/gif"/>
  <Override PartName="/ppt/media/image11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2A2-663F-4DA4-9599-168136030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copies (front, back, front) study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s and Beng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a beaker with just water. Add a few drops of phenolphthalein (clear liquid) and water stays clear.  Add a few drops of ammonia and the water turns red.  Add a few drops of vinegar and water turns clear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lphthalein turns reddish-purple when the pH of the solution exceeds the value of 8.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3691-2EA7-47A6-852E-8C003FC5AC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a beaker with just water. Add a few drops of phenolphthalein (clear liquid) and water stays clear.  Add a few drops of ammonia and the water turns red.  Add a few drops of vinegar and water turns clear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lphthalein turns reddish-purple when the pH of the solution exceeds the value of 8.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965-20CF-43A6-990C-41FDC6DE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CD2-743E-4A3B-87CC-F63FA457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9D5-6AFE-40F8-A5ED-A246385F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6B6-493B-4A95-929F-E0AAC8B3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5A3-C1B0-4C99-A327-7BDA380E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A42-D532-4D77-B6E4-B0A02B5E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558-EDF4-4862-BA57-F65071D6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FEA-6CA3-4D80-9AC4-E37605EC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FDA-FFB7-4246-8263-54626F6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5D7-2F4F-425D-A4E6-E9D32160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E99-1958-4F26-8BC8-E2796DC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301-E872-489D-B802-F05CC952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FACA-EE37-464C-AFC5-87FDC23C8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3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Red cabbage juice can be used to test the pH of common household chemicals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2926" t="14512" r="21723" b="10604"/>
          <a:stretch/>
        </p:blipFill>
        <p:spPr>
          <a:xfrm>
            <a:off x="228600" y="2819520"/>
            <a:ext cx="3886200" cy="3794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1" name=""/>
          <p:cNvSpPr txBox="1"/>
          <p:nvPr/>
        </p:nvSpPr>
        <p:spPr>
          <a:xfrm>
            <a:off x="380880" y="228600"/>
            <a:ext cx="8382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d Cabbage Jui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965240"/>
            <a:ext cx="9144000" cy="3750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Century Schoolbook"/>
              </a:rPr>
              <a:t>What is pH and how is it determine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111400" cy="13446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34" name=""/>
          <p:cNvSpPr txBox="1"/>
          <p:nvPr/>
        </p:nvSpPr>
        <p:spPr>
          <a:xfrm>
            <a:off x="2743200" y="333360"/>
            <a:ext cx="5562720" cy="9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avie"/>
              </a:rPr>
              <a:t>Key Question 1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554120"/>
            <a:ext cx="9144000" cy="143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entury Schoolbook"/>
              </a:rPr>
              <a:t>What is pH and how is it determi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111400" cy="13446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>
            <a:off x="2743200" y="333360"/>
            <a:ext cx="5562720" cy="9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avie"/>
              </a:rPr>
              <a:t>Key Question 1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90960"/>
            <a:ext cx="9144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your response be sure to inclu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pH and explain what pH stands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pH scale and explain what it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characteristic properties of acids and b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indicator, provide 2 examples of substances that are indicators, and explain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304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76320" y="735480"/>
            <a:ext cx="88394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nformal Roman"/>
              </a:rPr>
              <a:t>It’s Not Magic…It’s pH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Informal Roman"/>
              </a:rPr>
              <a:t>Demonstration Explan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12960" cy="1352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17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752480"/>
            <a:ext cx="8763120" cy="2438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111600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81680" y="4495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72200" y="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 _______________ Date:  _______________ Class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280" y="76320"/>
            <a:ext cx="6019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H Demonstration Explan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882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:  Explain the pH demonstration you saw today in class using most of the words from the word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81952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523880"/>
            <a:ext cx="9144000" cy="13341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b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ol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or                                                                    b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3200400" cy="310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d cabbage juice is 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510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indicator of acids and ba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rple in col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d when added to an aci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159" name="ANShape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NText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573120"/>
            <a:ext cx="8991360" cy="51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QUESTION 12: What is a chemical reac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what happens to molecules in a chemical chan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number of atoms before and after a chemical change ______________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ch of the following shows a correct equation for a chemical rea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ain and define chemical equations, reactants, and produc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cle the reactants and put a box around the products in the following chemical eq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, describe, and give examples of the 5 signs of a chemical chan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te the table below showing the 5 signs of a chemical change and give an example for ea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2247840"/>
            <a:ext cx="3670200" cy="457200"/>
            <a:chOff x="380880" y="2247840"/>
            <a:chExt cx="3670200" cy="457200"/>
          </a:xfrm>
        </p:grpSpPr>
        <p:sp>
          <p:nvSpPr>
            <p:cNvPr id="53" name=""/>
            <p:cNvSpPr/>
            <p:nvPr/>
          </p:nvSpPr>
          <p:spPr>
            <a:xfrm>
              <a:off x="38088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176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1300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7020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160" y="2323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17560" y="2476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04760" y="2323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5640" y="24382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46680" y="2097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1320" y="2019240"/>
            <a:ext cx="3047760" cy="764280"/>
            <a:chOff x="5791320" y="2019240"/>
            <a:chExt cx="3047760" cy="764280"/>
          </a:xfrm>
        </p:grpSpPr>
        <p:sp>
          <p:nvSpPr>
            <p:cNvPr id="63" name=""/>
            <p:cNvSpPr/>
            <p:nvPr/>
          </p:nvSpPr>
          <p:spPr>
            <a:xfrm>
              <a:off x="8003160" y="201924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791320" y="2222640"/>
              <a:ext cx="3047760" cy="380880"/>
              <a:chOff x="5791320" y="2222640"/>
              <a:chExt cx="304776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5791320" y="22226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43800" y="22226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159600" y="22986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53080" y="2413080"/>
                <a:ext cx="762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610480" y="22986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4407120" y="207000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68280" y="3429000"/>
            <a:ext cx="6609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                  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383544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4952880"/>
          <a:ext cx="8381880" cy="181944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Indicating Chemica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5562720" y="123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main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2038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(temperature &amp;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5119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58165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1182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64263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id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2057400"/>
            <a:ext cx="36576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198144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3429000"/>
            <a:ext cx="274320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00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tHands or Glow St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508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sting, Heating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8132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tting Milk or Burning C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61149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lysis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6423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lysis Rusting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Portfolio Clean-Up and Key Ques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Qu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 Cele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magic?”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magic?” Demonstration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ndica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52280" y="228600"/>
            <a:ext cx="87631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lecta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657600"/>
            <a:ext cx="8153280" cy="31035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Science Quiz 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5 Poi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76520" y="2286000"/>
            <a:ext cx="57909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sessment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hemical Reaction Celeb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2286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arklers!!!  What makes fireworks burn certain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might this property be important to scient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43800" y="51814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38088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>
                    <a:alpha val="6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 it MAGIC?</a:t>
            </a:r>
            <a:endParaRPr b="0" lang="en-US" sz="1800" spc="1" strike="noStrike">
              <a:ln w="0">
                <a:noFill/>
              </a:ln>
              <a:solidFill>
                <a:srgbClr val="ff00ff">
                  <a:alpha val="6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1371600" cy="195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10080" y="3124080"/>
            <a:ext cx="1371600" cy="1957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315200" y="4290840"/>
            <a:ext cx="1371600" cy="1957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8620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191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5378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666880"/>
            <a:ext cx="1219320" cy="1067040"/>
          </a:xfrm>
          <a:custGeom>
            <a:avLst/>
            <a:gdLst>
              <a:gd name="textAreaLeft" fmla="*/ 192960 w 1219320"/>
              <a:gd name="textAreaRight" fmla="*/ 1026360 w 1219320"/>
              <a:gd name="textAreaTop" fmla="*/ 168840 h 1067040"/>
              <a:gd name="textAreaBottom" fmla="*/ 8982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800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886200"/>
            <a:ext cx="1219320" cy="1066680"/>
          </a:xfrm>
          <a:custGeom>
            <a:avLst/>
            <a:gdLst>
              <a:gd name="textAreaLeft" fmla="*/ 192960 w 1219320"/>
              <a:gd name="textAreaRight" fmla="*/ 1026360 w 1219320"/>
              <a:gd name="textAreaTop" fmla="*/ 168840 h 1066680"/>
              <a:gd name="textAreaBottom" fmla="*/ 8978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105520"/>
            <a:ext cx="1218960" cy="1066680"/>
          </a:xfrm>
          <a:custGeom>
            <a:avLst/>
            <a:gdLst>
              <a:gd name="textAreaLeft" fmla="*/ 192960 w 1218960"/>
              <a:gd name="textAreaRight" fmla="*/ 1026000 w 1218960"/>
              <a:gd name="textAreaTop" fmla="*/ 168840 h 1066680"/>
              <a:gd name="textAreaBottom" fmla="*/ 8978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99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5300640"/>
            <a:ext cx="76960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Label a new page in your science notebook with today’s date and the title from abo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Record your observations during the demonst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2A6890E5-F9D8-427A-9D6E-397D17FF9217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Explain what happens when an indicator is added to a substance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8080" y="2286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>
                    <a:alpha val="6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's not magic...It's PH!</a:t>
            </a:r>
            <a:endParaRPr b="0" lang="en-US" sz="1800" spc="1" strike="noStrike">
              <a:ln w="0">
                <a:noFill/>
              </a:ln>
              <a:solidFill>
                <a:srgbClr val="ff00ff">
                  <a:alpha val="6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1371600" cy="1957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86200" y="3962520"/>
            <a:ext cx="1371600" cy="1957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371600" cy="195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4952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029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5049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724280"/>
            <a:ext cx="1218960" cy="1067040"/>
          </a:xfrm>
          <a:custGeom>
            <a:avLst/>
            <a:gdLst>
              <a:gd name="textAreaLeft" fmla="*/ 192960 w 1218960"/>
              <a:gd name="textAreaRight" fmla="*/ 1026000 w 1218960"/>
              <a:gd name="textAreaTop" fmla="*/ 168840 h 1067040"/>
              <a:gd name="textAreaBottom" fmla="*/ 8982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800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724280"/>
            <a:ext cx="1218960" cy="1067040"/>
          </a:xfrm>
          <a:custGeom>
            <a:avLst/>
            <a:gdLst>
              <a:gd name="textAreaLeft" fmla="*/ 192960 w 1218960"/>
              <a:gd name="textAreaRight" fmla="*/ 1026000 w 1218960"/>
              <a:gd name="textAreaTop" fmla="*/ 168840 h 1067040"/>
              <a:gd name="textAreaBottom" fmla="*/ 8982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776840"/>
            <a:ext cx="1219320" cy="1066680"/>
          </a:xfrm>
          <a:custGeom>
            <a:avLst/>
            <a:gdLst>
              <a:gd name="textAreaLeft" fmla="*/ 192960 w 1219320"/>
              <a:gd name="textAreaRight" fmla="*/ 1026360 w 1219320"/>
              <a:gd name="textAreaTop" fmla="*/ 168840 h 1066680"/>
              <a:gd name="textAreaBottom" fmla="*/ 8978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99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447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olet colored cabbage juice has the property of turning red when added to an acid and green when added to a base.  If the substance is neutral it stays purp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62520" y="6095880"/>
            <a:ext cx="109512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0" y="6095880"/>
            <a:ext cx="109548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6095880"/>
            <a:ext cx="109512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utra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6095880"/>
            <a:ext cx="8458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do you know about the mystery liquid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bage juice is an indicator:  It indicates whether a substance is an acidic, basic, or neutr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01:07Z</dcterms:created>
  <dc:creator>CCPS</dc:creator>
  <dc:description/>
  <dc:language>en-US</dc:language>
  <cp:lastModifiedBy>CCPS</cp:lastModifiedBy>
  <dcterms:modified xsi:type="dcterms:W3CDTF">2010-02-23T18:01:38Z</dcterms:modified>
  <cp:revision>2</cp:revision>
  <dc:subject/>
  <dc:title>Tuesday</dc:title>
</cp:coreProperties>
</file>